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1273-1C3C-4220-8CD7-EF93E37CB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B44F-4747-4C83-B5AC-56570044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1CB9-A191-4A6C-A372-69FB2353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91E1-0ADB-4CED-9486-94FCF070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0448-3ECA-4969-B80A-833962FF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5E81-694D-46C0-8FAA-2DD6C948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E29A-858A-40F6-A8F2-72286838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ADC52-C838-4A95-B704-54235B7E1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EE72F-455B-4AE9-817C-BD6B0564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5C2B7-52F2-4888-9E56-E97948F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897404-CB81-40F9-BBE2-EE0BA7C6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67741D-9AC6-4086-AA19-DC11E985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62A17-50A1-4B50-A25D-1B34E5B5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D051C-71AB-4E53-A4CA-E4D5BB3B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A80D-1646-4100-95EF-A6D2DA7A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B9D3BE-FE90-4A99-9528-869BB72F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775ABA-EBF4-467C-99D6-11487DB3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9E989-8475-4CAB-9383-2678D0BB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0FEA9-363A-4E74-A332-38FAA82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E5160-ED27-4C3D-B87D-10D13135F0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C247-0BA4-4053-B46E-2459D553E9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9422-0394-4DEB-B5C6-A1B57A19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7880-8EF8-4959-BAEC-98408FD6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B7B7-3905-447B-AAF9-7AF68FD1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CC52-0D48-4392-B159-9E2DBDD4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865A-D834-47A0-8974-C947313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B057-E7AF-4575-8409-C1B38FE9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11E0-4DE8-43DA-BB0F-E1F043AE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BFD1-E3F2-49B3-BD3C-2D333457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BD50-5EA5-4242-841C-3DE2D6D8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522D-C4C4-4F26-8235-3B57BA9C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5328-D7FB-4290-A599-2C57EAC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2284-5415-4327-9030-8210E73B1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B2DBE-5489-4252-8303-AEC1C1708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89AF6-A9F2-43AC-9393-D68934BB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9E36A-61AC-4897-98B5-3595DD0B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ED88-36F2-4A0E-BF28-6B567AF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B6D87-DD17-4731-BEEA-1CF848CA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76CD0-B491-42F7-B168-65CCD2C1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30CDB-7EF6-403B-A4E6-DCC74499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50D90-E5D5-4757-AE14-7D94AC55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E8C78-B867-4B5D-8D2B-7EF14726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3A1EC-CBEE-49F7-BA69-4A076B1C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E4D74-1286-470D-9CEB-F8ED7D10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48A07-3384-4CE5-A84D-E5E64FC4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D9C4D-15D8-4824-B577-714CE963F1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4DA16F-EDFA-48AF-9CDC-1ADF4EFAB6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D574-D5BB-4A03-9248-E38B594B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8053DF-0E69-4645-A866-11E91AB4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9C18E-7EFD-44C3-9B52-9B43E779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CA80E-1DD0-4EFE-9975-1904AB4B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6DA1C-8A4C-4E32-8B54-C25C8211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3DE7B4-E52F-4498-9EA4-5BCDE4A0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689F09-4861-465B-B6C8-D1EF1CDE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1FC522-3343-41CD-AED3-727D6BA5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689518-E997-4A4B-922E-F25F9A29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5F4629-52A5-4480-996D-60CFC1C6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58CF5D-35D2-4BDE-A391-D97366FC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0C5A-CD0F-4337-91F8-88DBEC17F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F9543-0961-4A22-A83E-03C269FC87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E747-A132-4452-925E-B0CFDA1FD7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D507-5F9C-46FD-B58A-156F3FC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A5B6-237C-4BC9-AAE6-DDECA20C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AB674-9501-4A95-A47E-7125DE7D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97B95-AE49-4DCC-8738-3B6D9554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2055C-7645-449B-ACC0-71EE2632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B337-1AB8-47D2-B4EF-77CE92E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13A6C-0CE7-49AC-887D-974B904A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6A4AB-9715-4B78-89E7-87672DA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F9C0C-6C42-44D5-BB80-AEFE698E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81F7B-1756-42D4-BDB0-C01F8873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2463-81E5-4570-BBEF-6E41206A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CAE36-A7A5-43BE-8DB4-156AEF2AA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55EF3-2266-4D03-B24B-93B483B46C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76527-6BB3-4A71-8C70-193716CB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9DC6C-3BB4-4B87-95F3-C9DE391A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E4DDD-6E73-43C7-AC3B-4FA3D69F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91A8E-95C8-400B-9F5A-BDB82CE9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DA308-DEF4-4582-A162-0730DB58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5A040-8FBF-4DE9-9458-C225BBE8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76CB0-F65E-4BC4-90F2-1BC8ACC5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7D14D-6FBE-4123-9A99-DE2D220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DB4D7-93BF-40D7-9BF5-B41127FF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8A246-6F67-4804-94E6-86762DDF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5BCED-4819-422E-9050-81B7E46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9B0DD-3584-4F90-9359-0780F457F2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95419F-58F8-4A9F-9176-00AB84B61B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352257-6F6C-4EF6-B92D-301D8729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731CEB-E42A-4394-9AE6-4034995D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BA54B-C3E4-41A5-97CD-FD391C2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BFC1C-81A0-4571-B4EE-343453E4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6A3EC-6A23-48CA-8920-7883774A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65F352-1573-4ADE-9738-38B97081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0B58DC-60DC-41DA-BCFC-D30F4691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6A6EA9-2962-4DD7-8BC2-82687D66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DFE473-C978-4A07-9D9F-787FD3A4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8B369C-8991-416E-B6F9-45511685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B0D503-B087-46D2-A5C8-DED6915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840C4-F3AE-4FF7-863B-5F78D44AF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A52C2-979D-4DBC-B4B3-6CDCE74A9D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AF45D-8B0D-49D9-8935-23506D92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03DC2-B362-4DFD-8481-4E1A865B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5E2B3-837C-4823-83CF-F582D9D2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A586F-1FB5-4BB1-90B7-83A8F74F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8FC3D-FC05-4139-9E07-F98EE4A2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BE36-5B56-4AD5-B522-A6B31EBA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E335A-98A2-4AE7-8A55-13A1BF7B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BE82A-AF6C-4A34-90EB-A836F153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DE0BE-B933-4289-B423-2DC25088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D4D3D-1004-4EA0-AA75-EB3343B9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E7E50-F9E2-40AF-86E4-A4B01D4E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B79DD-55D9-4AA7-8930-9FD6395EB5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5EEF1B-290A-43E8-8837-98AD7127BC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A587F-1251-4076-8B1B-E2EA9C82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1D0A8-2E0A-4F7D-879C-BD6A5485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AE0F9C-ED0E-4A51-BAD9-D7C452E9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6B434-9B69-4754-8B19-88E50400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C9A1DD-F3C9-4391-8A18-13D05AFA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F24BA-263C-4A9F-A412-A8FC495A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BAB19-F682-42C0-AD41-2003362B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96D32-1330-480E-9D16-94101992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278FFD-9FDC-4C59-B0B9-3F0C28D8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CC1DB-9987-4C39-A7B8-56546264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8AB25E-F516-4351-B7E6-B841D02E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D1A36-3351-497B-9A84-572244ED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DA3EA0-AACD-4907-94C8-1791C56CB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4D17E-9469-4CF3-90D9-0B2D94060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905B1-53A2-483E-9390-E263A93E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43529-EB8F-4E73-B429-25ABEAA0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06E82-5179-4EC1-AF68-71AFB14A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8E8E6-06AA-4A98-A13E-FA932472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EA1FF-722F-4B1D-AD2D-024975B5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667AF-F472-4014-8104-16394C2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4520B-FE06-49D2-928C-FAB1EF90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78E9D-E850-4F22-91FE-B9917198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A6D2B-52E2-456A-AEA0-BAE01D96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55D59-8426-487C-A260-65B6F2A4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2ACE1-0BC7-4C4C-ABFA-BFEFEAA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5CBA5-8632-4765-B2A2-D6775AB223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C910B-05E9-4391-BAF7-A60C200FCD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8D300-F83B-488A-9748-756D27BE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ECB93-B2FF-4342-A661-31786B5E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8B017-E110-4FE4-8A71-522EE14C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C31D2-0665-4813-B393-6E1A2460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2B699-579B-4B77-A3AF-AF0BFAA5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7A783-8596-4B49-9511-5296FA6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C46F3-ECB2-4D93-A741-12D76CB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7463F-1AC6-4AF1-BF35-5B44C0E8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EA492-B629-4B72-95B4-CB7363DE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A853A-0EB5-4151-B902-19F9EECB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136EA-FEC8-4CC1-9F53-338F7C3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C97F4-ED10-49CD-AA77-65C278EEDB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897C2-63C9-4DCC-957E-A222B80D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C93F2-4949-43FD-B8B6-729304AB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2F4C0-D812-4C1A-86CA-C65670AB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0A8FB-D187-4640-BF81-ED8C43F5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FD951-9C6C-4851-A8AC-D8AAD69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044F3-8C4E-4B05-982C-4BF1AB2B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03977-D8A7-41CD-9ACB-218F9FF3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2D8BC-3E17-4EB8-9EE8-BEAA4A8D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20946-D98B-45CF-9074-AF173C9E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18182-E186-448E-A7DD-6428E0A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626F9-0418-43C3-82F5-9128DBF7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4FCB5-0045-45F8-A873-862C9720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93478-DBF6-4925-8FF3-B2A8616F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6033C-2AB4-4006-9444-7A39BA03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D4E68-8551-457C-BAA9-810755FE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57AB5-DA11-4154-8634-0BEC4D1C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A536E-CED0-418A-ACA1-C19C01A7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76F2F-3443-412B-9C64-7C8036F1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DE4C8-3902-4B11-82F3-A570FA77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5C717-58C3-4EE7-B748-2BDF048F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23403-2C7D-4F96-96BF-AA96972E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0DB70-B962-45E2-9C1E-14B91D10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20089-E90D-472E-BB6C-3321B650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5530B-84CA-4736-951C-EBA67C49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4ED6F-460E-4D6A-BE59-BE69C02A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CFFF6-4038-4259-B210-ED32ADD0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6D9D2-E40E-454D-BDBC-F1D117A4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74591-6901-4817-AFB7-2669E36A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6A10E-E816-4FF3-8D5F-EAB62AF3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DC1FF-F605-42E9-B565-DAA7A529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B41CE-AB30-4341-BEE9-A95A4621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8D8CD-B56D-44DB-811B-4EC8EFE9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348F3-EF20-4783-9047-523CA34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D77BD-9CD7-4AF2-8388-2FC5C5B0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F36B2-BA80-408F-A99B-86FE00B0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2A28D-E771-4805-B84B-40985E95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59C03-92F4-4F81-8F39-46415E0B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43345-71B7-407B-8E7E-F3BAC530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FFCD8-0991-4C62-9659-DEE87328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43376-308B-43C4-BDB5-399B145B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5878B-0AAA-4E58-8768-247950FC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646F0-E679-4DD2-B80E-6848148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DAB97-2C02-4B25-9C83-B68AE283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D43EE-77A5-4262-8BBF-46B84C1B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BF5AF-B948-4759-B783-0FE796CA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EC288-2EAC-4D26-A359-E7101163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CFE07-1CE0-427E-923F-C76E3FB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31601-800C-43F4-9312-75D61D62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3769F-ADFB-49F8-9553-D2C6AD6D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139B4-C5D5-444F-97C9-6A0D9D6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6F8A3-BC30-4360-BC7E-881099B7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B069D-B62C-4644-A8F2-C44B7590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EAB22-F72C-44A6-A094-A907AF76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77128-9463-46EA-AE02-03C3C66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1E926-FE5C-40CD-8F00-72831122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C27BD-645B-4428-96BE-B776C94B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D40F5-217D-4942-BEEC-21624493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6B5F6-29D2-4D53-92B8-88A06472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74A2F-5E2D-4B8F-ABBF-3B081F3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BA40E-335E-4854-A6EB-2B98321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F3B80-B0F2-4482-80F9-B5CAB4F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AF844-9699-4E02-8411-0F8E06A7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B788C-90DA-47B2-A2AB-8A1A1A40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75982-B69F-49CE-A187-DE973AB9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FA4A8-64FB-470C-AB16-5A1F8C98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C461D-9BDA-475F-8567-96158942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8EA4D-3B42-422B-A07E-D09F607F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CADD9-AF33-4115-A47F-41C6B4E3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DF222-0581-47D6-8048-199AEA57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19869-23CF-487D-80A0-1301036D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941CE-F36F-4560-B50D-CB12FCCC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4031A-6F0F-4C5C-B61B-F71B9A7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F04AA-3E3B-4669-8FFC-A050D9E5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A43CD-5E2B-4815-8A64-E12692D8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D26E2-8DFC-421F-BF49-AE02D221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881AD-F21B-40C8-B114-964B598E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0CE5C-44B1-4410-9BC4-04357741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F27A3-1340-4160-B1D4-28AE2E86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1EB84-E90E-48E7-96DB-D08C5B27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BD326-395C-4EDE-BF45-CE989D16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92DFB-6C97-4CD7-B4D9-7776D4C2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486B6-F8A6-42A1-B0A0-5212CC5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8AEC2-563E-4CFE-89B2-5B603790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2074C-CFA7-4E7F-9912-227E11F5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4522E-AEE3-4877-A005-718476A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05E39-8B96-424A-ADA4-B0579E68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BDC36-5F96-4D30-B456-6AD5AF33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DFF19-E3C0-4942-AA9B-1E35E850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22884-18B3-404F-BF2F-2FD75A51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76F19-439C-4D8C-B8FD-1E19AEBA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D3878-3D38-4129-995D-A819E0E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76811-EE16-4B11-AE58-6C1F87D2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85BFA-6595-4676-90D3-95603B5B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208EB-FF86-4441-BC18-D3DF8233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2A591F-5003-47CD-92A8-D6C9684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35D35-8752-47B5-B9CD-2BFBCE4E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C4EE7-0077-4125-96E0-34E641C2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2D411B-7183-4DF0-B58B-24271DA0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946A8-1698-4AF4-8A71-22AF40F6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A9D5F-7D81-4D23-8D97-1ACBC8F2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134F3-86FE-49F6-BA98-C582F19F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956FF-0435-402B-A21F-420AD1CF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42A09-EBEB-4ADB-9936-F031EBDD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A2949-A7FE-46F0-A2CB-1EC62DD6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A3F459-F91C-4F4B-8EAE-7D34EEB5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C3697-F761-490C-869D-4867016E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A14A4-BEC4-409F-92B6-7A2D4F4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673EB-7CFD-4D64-9191-B56C2A95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30474-F640-4D06-81A6-FA29C0A9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49524-AA9A-45C6-9787-EC85F417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4CAC9-3033-4306-8C30-861CB888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95B44-6B23-4747-A4BC-C3E95F92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7CFAF-53E4-41C7-81AE-33DDE0FE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A5073-3892-41B6-83A4-5AB01601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0DE92-BCED-477E-8D0A-43EA24F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32BAA-9C21-4677-B8EE-97DA5E08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2ACDA-EA93-4138-ABE8-DCD53077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EB731-95CF-469E-8EA2-5B4B3015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E5AE6C-F387-4130-95FE-417BA7C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8C23D7-2E39-4D0B-8F18-C779F0FA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7AD1D-B817-4735-8386-4C36F9AE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F3305-D182-467F-A8F9-0302D37D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6FFAE-1D11-45A1-AAFD-69F18EF8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2F51E-F7B9-4FC5-AD50-59EBC559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8B520-EFCF-4E3C-8EAF-F7121F63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FE870-0B85-42A3-8612-21969DD3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28ED2-BF3D-47A4-93CB-EEA32264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35F75-CBEC-4C73-B71D-D34F3C1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28718-30FF-44F6-8660-800C1439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71521-DF69-481C-AC49-347E6CFE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599BC4-2A3D-4CAA-A868-7D408CF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F841FF-6698-4409-8087-66232BD1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0F1A6-C52F-48B7-A811-7B3E17C1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0A608-25F6-446A-B097-A8331344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BE669-57F7-467F-8F74-053F40E3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EF07B-D891-4EAD-A333-113265A5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../../../&#30446;&#2440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00801">
            <a:hlinkClick r:id="rId3"/>
          </p:cNvPr>
          <p:cNvSpPr/>
          <p:nvPr/>
        </p:nvSpPr>
        <p:spPr>
          <a:xfrm>
            <a:off x="1660680" y="208080"/>
            <a:ext cx="1049040" cy="322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101825">
            <a:hlinkClick r:id="" action="ppaction://hlinkshowjump?jump=firstslide"/>
          </p:cNvPr>
          <p:cNvSpPr/>
          <p:nvPr/>
        </p:nvSpPr>
        <p:spPr>
          <a:xfrm>
            <a:off x="1684440" y="230040"/>
            <a:ext cx="1030320" cy="28584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1101851" descr="探究"/>
          <p:cNvPicPr/>
          <p:nvPr/>
        </p:nvPicPr>
        <p:blipFill>
          <a:blip r:embed="rId3"/>
          <a:srcRect l="0" t="0" r="27946" b="3073"/>
          <a:stretch/>
        </p:blipFill>
        <p:spPr>
          <a:xfrm>
            <a:off x="3171960" y="230040"/>
            <a:ext cx="847440" cy="295560"/>
          </a:xfrm>
          <a:prstGeom prst="rect">
            <a:avLst/>
          </a:prstGeom>
          <a:ln w="0">
            <a:noFill/>
          </a:ln>
        </p:spPr>
      </p:pic>
      <p:pic>
        <p:nvPicPr>
          <p:cNvPr id="39" name="图片 1101852" descr="难题"/>
          <p:cNvPicPr/>
          <p:nvPr/>
        </p:nvPicPr>
        <p:blipFill>
          <a:blip r:embed="rId4"/>
          <a:srcRect l="0" t="0" r="27486" b="6265"/>
          <a:stretch/>
        </p:blipFill>
        <p:spPr>
          <a:xfrm>
            <a:off x="4238640" y="219240"/>
            <a:ext cx="866880" cy="2854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101853" descr="拓展"/>
          <p:cNvPicPr/>
          <p:nvPr/>
        </p:nvPicPr>
        <p:blipFill>
          <a:blip r:embed="rId5"/>
          <a:srcRect l="0" t="0" r="23756" b="0"/>
          <a:stretch/>
        </p:blipFill>
        <p:spPr>
          <a:xfrm>
            <a:off x="5326200" y="217440"/>
            <a:ext cx="855360" cy="3049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101854" descr="巩固"/>
          <p:cNvPicPr/>
          <p:nvPr/>
        </p:nvPicPr>
        <p:blipFill>
          <a:blip r:embed="rId6"/>
          <a:srcRect l="0" t="0" r="7746" b="3664"/>
          <a:stretch/>
        </p:blipFill>
        <p:spPr>
          <a:xfrm>
            <a:off x="6402240" y="219240"/>
            <a:ext cx="849600" cy="29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01855" descr="总结"/>
          <p:cNvPicPr/>
          <p:nvPr/>
        </p:nvPicPr>
        <p:blipFill>
          <a:blip r:embed="rId7"/>
          <a:stretch/>
        </p:blipFill>
        <p:spPr>
          <a:xfrm>
            <a:off x="7472520" y="219240"/>
            <a:ext cx="92052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B1A6-DC79-4C82-9E9C-49D1AD14B5D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FF3D-FB44-4E61-8E9C-A9595F7839B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1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sldNum" idx="1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CF5-06B4-4B9C-97B5-DB426DF5C93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81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2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3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4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5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AB66-F8ED-4F02-B3BD-53B606DE005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1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sldNum" idx="1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0CF7-5B33-4CF4-ADEF-5AB1BCD92BF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1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1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8B8B-E3CB-4C4D-8FB9-D96AE144157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1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sldNum" idx="1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8F5E-E5B5-42AC-B6FB-0B4A2776C06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1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1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9AA9-898E-497F-95F4-1816911978B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2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sldNum" idx="2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3642-3E3A-415B-AE77-DE944AF315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2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2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3F8-2C63-473C-BADF-A66D7C14C11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2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sldNum" idx="2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72C7-C41F-468B-B2F0-3986FD30103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2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sldNum" idx="2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8FD9-EFBF-4502-8973-990D1B2B8CF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2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2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B04D-629D-4479-9F21-69BFC3B9D6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3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32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E438-E822-4A23-89B6-D358BD476F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28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9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D01C-DBDF-4F62-B33D-34E076FDE2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3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35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898-41BB-4BB9-A7D8-73D40F4240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3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38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9CE-1D85-4050-8573-E82DC9B641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 type="dt" idx="4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 type="ftr" idx="41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B4F9-5DB0-48DC-98F6-CC96E2B873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 type="dt" idx="4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 type="ftr" idx="4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 type="sldNum" idx="4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A24D-0A82-4BB4-8EBA-6C4AE37DEBE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4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47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4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E7A-4B50-402D-9851-91B4CBEFAC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4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50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5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2B59-8D09-40C6-A53B-B82DAF9CB9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5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5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5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B235-4065-436F-A9D2-2FDD61D73C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 type="dt" idx="5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 type="ftr" idx="5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 type="sldNum" idx="5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F085-59B1-4AE0-87BC-AB00F7277D0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5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5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6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91A8-7B0E-432A-A554-5AE774D889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图片 368689" descr=""/>
          <p:cNvPicPr/>
          <p:nvPr/>
        </p:nvPicPr>
        <p:blipFill>
          <a:blip r:embed="rId1"/>
          <a:stretch/>
        </p:blipFill>
        <p:spPr>
          <a:xfrm>
            <a:off x="938160" y="2550960"/>
            <a:ext cx="726912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图片 1239060" descr="74"/>
          <p:cNvPicPr/>
          <p:nvPr/>
        </p:nvPicPr>
        <p:blipFill>
          <a:blip r:embed="rId1"/>
          <a:srcRect l="0" t="14622" r="12214" b="0"/>
          <a:stretch/>
        </p:blipFill>
        <p:spPr>
          <a:xfrm>
            <a:off x="2997360" y="787320"/>
            <a:ext cx="2841480" cy="666720"/>
          </a:xfrm>
          <a:prstGeom prst="rect">
            <a:avLst/>
          </a:prstGeom>
          <a:ln w="0">
            <a:noFill/>
          </a:ln>
        </p:spPr>
      </p:pic>
      <p:pic>
        <p:nvPicPr>
          <p:cNvPr id="1893" name="图片 1239061" descr=""/>
          <p:cNvPicPr/>
          <p:nvPr/>
        </p:nvPicPr>
        <p:blipFill>
          <a:blip r:embed="rId2"/>
          <a:stretch/>
        </p:blipFill>
        <p:spPr>
          <a:xfrm>
            <a:off x="1695600" y="1500120"/>
            <a:ext cx="5270400" cy="3845160"/>
          </a:xfrm>
          <a:prstGeom prst="rect">
            <a:avLst/>
          </a:prstGeom>
          <a:ln w="0">
            <a:noFill/>
          </a:ln>
        </p:spPr>
      </p:pic>
      <p:sp>
        <p:nvSpPr>
          <p:cNvPr id="1894" name="矩形 1239062"/>
          <p:cNvSpPr/>
          <p:nvPr/>
        </p:nvSpPr>
        <p:spPr>
          <a:xfrm>
            <a:off x="3670200" y="30146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5" name="矩形 1239063"/>
          <p:cNvSpPr/>
          <p:nvPr/>
        </p:nvSpPr>
        <p:spPr>
          <a:xfrm>
            <a:off x="5283360" y="3002040"/>
            <a:ext cx="149040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6" name="矩形 1239064"/>
          <p:cNvSpPr/>
          <p:nvPr/>
        </p:nvSpPr>
        <p:spPr>
          <a:xfrm>
            <a:off x="3708360" y="380196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7" name="矩形 1239065"/>
          <p:cNvSpPr/>
          <p:nvPr/>
        </p:nvSpPr>
        <p:spPr>
          <a:xfrm>
            <a:off x="5257800" y="3827520"/>
            <a:ext cx="149076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8" name="矩形 1239066"/>
          <p:cNvSpPr/>
          <p:nvPr/>
        </p:nvSpPr>
        <p:spPr>
          <a:xfrm>
            <a:off x="3670200" y="46148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9" name="矩形 1239067"/>
          <p:cNvSpPr/>
          <p:nvPr/>
        </p:nvSpPr>
        <p:spPr>
          <a:xfrm>
            <a:off x="5283360" y="4653000"/>
            <a:ext cx="149040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0" name="图片 1248261" descr=""/>
          <p:cNvPicPr/>
          <p:nvPr/>
        </p:nvPicPr>
        <p:blipFill>
          <a:blip r:embed="rId1"/>
          <a:stretch/>
        </p:blipFill>
        <p:spPr>
          <a:xfrm>
            <a:off x="1101600" y="1655640"/>
            <a:ext cx="6942240" cy="2400480"/>
          </a:xfrm>
          <a:prstGeom prst="rect">
            <a:avLst/>
          </a:prstGeom>
          <a:ln w="0">
            <a:noFill/>
          </a:ln>
        </p:spPr>
      </p:pic>
      <p:sp>
        <p:nvSpPr>
          <p:cNvPr id="1901" name="矩形 1248262"/>
          <p:cNvSpPr/>
          <p:nvPr/>
        </p:nvSpPr>
        <p:spPr>
          <a:xfrm>
            <a:off x="2311560" y="2163600"/>
            <a:ext cx="9190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2" name="矩形 1248263"/>
          <p:cNvSpPr/>
          <p:nvPr/>
        </p:nvSpPr>
        <p:spPr>
          <a:xfrm>
            <a:off x="4356000" y="2125800"/>
            <a:ext cx="91944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3" name="矩形 1248264"/>
          <p:cNvSpPr/>
          <p:nvPr/>
        </p:nvSpPr>
        <p:spPr>
          <a:xfrm>
            <a:off x="6972480" y="2214720"/>
            <a:ext cx="91908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4" name="矩形 1248265"/>
          <p:cNvSpPr/>
          <p:nvPr/>
        </p:nvSpPr>
        <p:spPr>
          <a:xfrm>
            <a:off x="2298600" y="2773440"/>
            <a:ext cx="91944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5" name="矩形 1248266"/>
          <p:cNvSpPr/>
          <p:nvPr/>
        </p:nvSpPr>
        <p:spPr>
          <a:xfrm>
            <a:off x="4368960" y="2786040"/>
            <a:ext cx="91908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6" name="矩形 1248267"/>
          <p:cNvSpPr/>
          <p:nvPr/>
        </p:nvSpPr>
        <p:spPr>
          <a:xfrm>
            <a:off x="7137360" y="2836800"/>
            <a:ext cx="9190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7" name="矩形 1248268"/>
          <p:cNvSpPr/>
          <p:nvPr/>
        </p:nvSpPr>
        <p:spPr>
          <a:xfrm>
            <a:off x="2463840" y="3471840"/>
            <a:ext cx="91908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8" name="矩形 1248269"/>
          <p:cNvSpPr/>
          <p:nvPr/>
        </p:nvSpPr>
        <p:spPr>
          <a:xfrm>
            <a:off x="4610160" y="3395520"/>
            <a:ext cx="13636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9" name="矩形 1248270"/>
          <p:cNvSpPr/>
          <p:nvPr/>
        </p:nvSpPr>
        <p:spPr>
          <a:xfrm>
            <a:off x="7124760" y="3433680"/>
            <a:ext cx="13636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0" name="图片 1244164" descr=""/>
          <p:cNvPicPr/>
          <p:nvPr/>
        </p:nvPicPr>
        <p:blipFill>
          <a:blip r:embed="rId1"/>
          <a:stretch/>
        </p:blipFill>
        <p:spPr>
          <a:xfrm>
            <a:off x="1386000" y="1351080"/>
            <a:ext cx="6373800" cy="3009960"/>
          </a:xfrm>
          <a:prstGeom prst="rect">
            <a:avLst/>
          </a:prstGeom>
          <a:ln w="0">
            <a:noFill/>
          </a:ln>
        </p:spPr>
      </p:pic>
      <p:sp>
        <p:nvSpPr>
          <p:cNvPr id="1911" name="矩形 1244165"/>
          <p:cNvSpPr/>
          <p:nvPr/>
        </p:nvSpPr>
        <p:spPr>
          <a:xfrm>
            <a:off x="2793960" y="3116160"/>
            <a:ext cx="982800" cy="6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2" name="矩形 1244166"/>
          <p:cNvSpPr/>
          <p:nvPr/>
        </p:nvSpPr>
        <p:spPr>
          <a:xfrm>
            <a:off x="6184800" y="3078000"/>
            <a:ext cx="982800" cy="6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3" name="矩形 1244167"/>
          <p:cNvSpPr/>
          <p:nvPr/>
        </p:nvSpPr>
        <p:spPr>
          <a:xfrm>
            <a:off x="2832120" y="3738600"/>
            <a:ext cx="98280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4" name="矩形 1244168"/>
          <p:cNvSpPr/>
          <p:nvPr/>
        </p:nvSpPr>
        <p:spPr>
          <a:xfrm>
            <a:off x="6121440" y="3763800"/>
            <a:ext cx="982800" cy="6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图片 1247238" descr=""/>
          <p:cNvPicPr/>
          <p:nvPr/>
        </p:nvPicPr>
        <p:blipFill>
          <a:blip r:embed="rId1"/>
          <a:stretch/>
        </p:blipFill>
        <p:spPr>
          <a:xfrm>
            <a:off x="1866960" y="1351080"/>
            <a:ext cx="5410080" cy="3009960"/>
          </a:xfrm>
          <a:prstGeom prst="rect">
            <a:avLst/>
          </a:prstGeom>
          <a:ln w="0">
            <a:noFill/>
          </a:ln>
        </p:spPr>
      </p:pic>
      <p:sp>
        <p:nvSpPr>
          <p:cNvPr id="1916" name="矩形 1247239"/>
          <p:cNvSpPr/>
          <p:nvPr/>
        </p:nvSpPr>
        <p:spPr>
          <a:xfrm>
            <a:off x="3797280" y="1960560"/>
            <a:ext cx="7160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7" name="矩形 1247240"/>
          <p:cNvSpPr/>
          <p:nvPr/>
        </p:nvSpPr>
        <p:spPr>
          <a:xfrm>
            <a:off x="3936960" y="2608200"/>
            <a:ext cx="7160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8" name="矩形 1247241"/>
          <p:cNvSpPr/>
          <p:nvPr/>
        </p:nvSpPr>
        <p:spPr>
          <a:xfrm>
            <a:off x="4127400" y="3243240"/>
            <a:ext cx="86832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9" name="矩形 1247242"/>
          <p:cNvSpPr/>
          <p:nvPr/>
        </p:nvSpPr>
        <p:spPr>
          <a:xfrm>
            <a:off x="4305240" y="3865680"/>
            <a:ext cx="104616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0" name="图片 1246215" descr=""/>
          <p:cNvPicPr/>
          <p:nvPr/>
        </p:nvPicPr>
        <p:blipFill>
          <a:blip r:embed="rId1"/>
          <a:stretch/>
        </p:blipFill>
        <p:spPr>
          <a:xfrm>
            <a:off x="1571760" y="1279440"/>
            <a:ext cx="6002280" cy="3152880"/>
          </a:xfrm>
          <a:prstGeom prst="rect">
            <a:avLst/>
          </a:prstGeom>
          <a:ln w="0">
            <a:noFill/>
          </a:ln>
        </p:spPr>
      </p:pic>
      <p:sp>
        <p:nvSpPr>
          <p:cNvPr id="1921" name="矩形 1246216"/>
          <p:cNvSpPr/>
          <p:nvPr/>
        </p:nvSpPr>
        <p:spPr>
          <a:xfrm>
            <a:off x="3898800" y="1897200"/>
            <a:ext cx="13636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2" name="矩形 1246217"/>
          <p:cNvSpPr/>
          <p:nvPr/>
        </p:nvSpPr>
        <p:spPr>
          <a:xfrm>
            <a:off x="4114800" y="2506680"/>
            <a:ext cx="1427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3" name="矩形 1246218"/>
          <p:cNvSpPr/>
          <p:nvPr/>
        </p:nvSpPr>
        <p:spPr>
          <a:xfrm>
            <a:off x="4317840" y="3154320"/>
            <a:ext cx="15922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4" name="矩形 1246219"/>
          <p:cNvSpPr/>
          <p:nvPr/>
        </p:nvSpPr>
        <p:spPr>
          <a:xfrm>
            <a:off x="4508640" y="3789360"/>
            <a:ext cx="15922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5" name="图片 1245191" descr=""/>
          <p:cNvPicPr/>
          <p:nvPr/>
        </p:nvPicPr>
        <p:blipFill>
          <a:blip r:embed="rId1"/>
          <a:stretch/>
        </p:blipFill>
        <p:spPr>
          <a:xfrm>
            <a:off x="1173240" y="1398600"/>
            <a:ext cx="6799320" cy="2914560"/>
          </a:xfrm>
          <a:prstGeom prst="rect">
            <a:avLst/>
          </a:prstGeom>
          <a:ln w="0">
            <a:noFill/>
          </a:ln>
        </p:spPr>
      </p:pic>
      <p:sp>
        <p:nvSpPr>
          <p:cNvPr id="1926" name="矩形 1245192"/>
          <p:cNvSpPr/>
          <p:nvPr/>
        </p:nvSpPr>
        <p:spPr>
          <a:xfrm>
            <a:off x="4673520" y="2671920"/>
            <a:ext cx="1096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7" name="矩形 1245193"/>
          <p:cNvSpPr/>
          <p:nvPr/>
        </p:nvSpPr>
        <p:spPr>
          <a:xfrm>
            <a:off x="6273720" y="2684520"/>
            <a:ext cx="122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8" name="矩形 1245194"/>
          <p:cNvSpPr/>
          <p:nvPr/>
        </p:nvSpPr>
        <p:spPr>
          <a:xfrm>
            <a:off x="3632040" y="3255840"/>
            <a:ext cx="449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9" name="矩形 1245195"/>
          <p:cNvSpPr/>
          <p:nvPr/>
        </p:nvSpPr>
        <p:spPr>
          <a:xfrm>
            <a:off x="4826160" y="3268800"/>
            <a:ext cx="6778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0" name="矩形 1245196"/>
          <p:cNvSpPr/>
          <p:nvPr/>
        </p:nvSpPr>
        <p:spPr>
          <a:xfrm>
            <a:off x="4470480" y="3878280"/>
            <a:ext cx="1020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1" name="矩形 1245197"/>
          <p:cNvSpPr/>
          <p:nvPr/>
        </p:nvSpPr>
        <p:spPr>
          <a:xfrm>
            <a:off x="6197760" y="3865680"/>
            <a:ext cx="12747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图片 1243139" descr=""/>
          <p:cNvPicPr/>
          <p:nvPr/>
        </p:nvPicPr>
        <p:blipFill>
          <a:blip r:embed="rId1"/>
          <a:stretch/>
        </p:blipFill>
        <p:spPr>
          <a:xfrm>
            <a:off x="1108080" y="669960"/>
            <a:ext cx="6904080" cy="4829040"/>
          </a:xfrm>
          <a:prstGeom prst="rect">
            <a:avLst/>
          </a:prstGeom>
          <a:ln w="0">
            <a:noFill/>
          </a:ln>
        </p:spPr>
      </p:pic>
      <p:sp>
        <p:nvSpPr>
          <p:cNvPr id="1933" name="矩形 1243140"/>
          <p:cNvSpPr/>
          <p:nvPr/>
        </p:nvSpPr>
        <p:spPr>
          <a:xfrm>
            <a:off x="2476440" y="174456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4" name="矩形 1243141"/>
          <p:cNvSpPr/>
          <p:nvPr/>
        </p:nvSpPr>
        <p:spPr>
          <a:xfrm>
            <a:off x="2984400" y="237960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5" name="矩形 1243142"/>
          <p:cNvSpPr/>
          <p:nvPr/>
        </p:nvSpPr>
        <p:spPr>
          <a:xfrm>
            <a:off x="3327480" y="30146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6" name="矩形 1243143"/>
          <p:cNvSpPr/>
          <p:nvPr/>
        </p:nvSpPr>
        <p:spPr>
          <a:xfrm>
            <a:off x="3657600" y="3637080"/>
            <a:ext cx="149076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7" name="矩形 1243144"/>
          <p:cNvSpPr/>
          <p:nvPr/>
        </p:nvSpPr>
        <p:spPr>
          <a:xfrm>
            <a:off x="4000680" y="4284720"/>
            <a:ext cx="18460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8" name="矩形 1243145"/>
          <p:cNvSpPr/>
          <p:nvPr/>
        </p:nvSpPr>
        <p:spPr>
          <a:xfrm>
            <a:off x="4317840" y="493236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9" name="图片 1259522" descr=""/>
          <p:cNvPicPr/>
          <p:nvPr/>
        </p:nvPicPr>
        <p:blipFill>
          <a:blip r:embed="rId1"/>
          <a:stretch/>
        </p:blipFill>
        <p:spPr>
          <a:xfrm>
            <a:off x="1638360" y="1050840"/>
            <a:ext cx="5486400" cy="3610080"/>
          </a:xfrm>
          <a:prstGeom prst="rect">
            <a:avLst/>
          </a:prstGeom>
          <a:ln w="0">
            <a:noFill/>
          </a:ln>
        </p:spPr>
      </p:pic>
      <p:sp>
        <p:nvSpPr>
          <p:cNvPr id="1940" name="矩形 1259523"/>
          <p:cNvSpPr/>
          <p:nvPr/>
        </p:nvSpPr>
        <p:spPr>
          <a:xfrm>
            <a:off x="3695760" y="1541520"/>
            <a:ext cx="2354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1" name="矩形 1259524"/>
          <p:cNvSpPr/>
          <p:nvPr/>
        </p:nvSpPr>
        <p:spPr>
          <a:xfrm>
            <a:off x="4191120" y="2138400"/>
            <a:ext cx="2354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2" name="矩形 1259525"/>
          <p:cNvSpPr/>
          <p:nvPr/>
        </p:nvSpPr>
        <p:spPr>
          <a:xfrm>
            <a:off x="4686480" y="2798640"/>
            <a:ext cx="23540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3" name="矩形 1259526"/>
          <p:cNvSpPr/>
          <p:nvPr/>
        </p:nvSpPr>
        <p:spPr>
          <a:xfrm>
            <a:off x="5219640" y="343368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4" name="矩形 1259527"/>
          <p:cNvSpPr/>
          <p:nvPr/>
        </p:nvSpPr>
        <p:spPr>
          <a:xfrm>
            <a:off x="5715000" y="406872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5" name="图片 1260545" descr=""/>
          <p:cNvPicPr/>
          <p:nvPr/>
        </p:nvPicPr>
        <p:blipFill>
          <a:blip r:embed="rId1"/>
          <a:stretch/>
        </p:blipFill>
        <p:spPr>
          <a:xfrm>
            <a:off x="1414440" y="803160"/>
            <a:ext cx="6137280" cy="4626000"/>
          </a:xfrm>
          <a:prstGeom prst="rect">
            <a:avLst/>
          </a:prstGeom>
          <a:ln w="0">
            <a:noFill/>
          </a:ln>
        </p:spPr>
      </p:pic>
      <p:sp>
        <p:nvSpPr>
          <p:cNvPr id="1946" name="矩形 1260546"/>
          <p:cNvSpPr/>
          <p:nvPr/>
        </p:nvSpPr>
        <p:spPr>
          <a:xfrm>
            <a:off x="3238560" y="2316240"/>
            <a:ext cx="2354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7" name="矩形 1260547"/>
          <p:cNvSpPr/>
          <p:nvPr/>
        </p:nvSpPr>
        <p:spPr>
          <a:xfrm>
            <a:off x="3378240" y="2824200"/>
            <a:ext cx="235440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8" name="矩形 1260548"/>
          <p:cNvSpPr/>
          <p:nvPr/>
        </p:nvSpPr>
        <p:spPr>
          <a:xfrm>
            <a:off x="3517920" y="334476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9" name="矩形 1260549"/>
          <p:cNvSpPr/>
          <p:nvPr/>
        </p:nvSpPr>
        <p:spPr>
          <a:xfrm>
            <a:off x="3670200" y="3840120"/>
            <a:ext cx="2354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0" name="矩形 1260550"/>
          <p:cNvSpPr/>
          <p:nvPr/>
        </p:nvSpPr>
        <p:spPr>
          <a:xfrm>
            <a:off x="1663560" y="4475160"/>
            <a:ext cx="3484800" cy="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1" name="图片 1257480" descr="75"/>
          <p:cNvPicPr/>
          <p:nvPr/>
        </p:nvPicPr>
        <p:blipFill>
          <a:blip r:embed="rId1"/>
          <a:srcRect l="0" t="0" r="11958" b="0"/>
          <a:stretch/>
        </p:blipFill>
        <p:spPr>
          <a:xfrm>
            <a:off x="3174840" y="693720"/>
            <a:ext cx="2829240" cy="781200"/>
          </a:xfrm>
          <a:prstGeom prst="rect">
            <a:avLst/>
          </a:prstGeom>
          <a:ln w="0">
            <a:noFill/>
          </a:ln>
        </p:spPr>
      </p:pic>
      <p:sp>
        <p:nvSpPr>
          <p:cNvPr id="1952" name="Rectangle 7"/>
          <p:cNvSpPr/>
          <p:nvPr/>
        </p:nvSpPr>
        <p:spPr>
          <a:xfrm>
            <a:off x="236520" y="2162160"/>
            <a:ext cx="8650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节课你印象最深刻的是什么？通过课堂活动，你有什么体会和收获？和老师、同学交流一下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53" name="Picture 10" descr="C:\Documents and Settings\Administrator\桌面\我上学了副本.jpg"/>
          <p:cNvPicPr/>
          <p:nvPr/>
        </p:nvPicPr>
        <p:blipFill>
          <a:blip r:embed="rId2"/>
          <a:srcRect l="0" t="20452" r="0" b="6364"/>
          <a:stretch/>
        </p:blipFill>
        <p:spPr>
          <a:xfrm>
            <a:off x="5934240" y="3983040"/>
            <a:ext cx="27702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图片 377064" descr="71"/>
          <p:cNvPicPr/>
          <p:nvPr/>
        </p:nvPicPr>
        <p:blipFill>
          <a:blip r:embed="rId1"/>
          <a:srcRect l="0" t="11993" r="14416" b="0"/>
          <a:stretch/>
        </p:blipFill>
        <p:spPr>
          <a:xfrm>
            <a:off x="2975040" y="755640"/>
            <a:ext cx="2770200" cy="687240"/>
          </a:xfrm>
          <a:prstGeom prst="rect">
            <a:avLst/>
          </a:prstGeom>
          <a:ln w="0">
            <a:noFill/>
          </a:ln>
        </p:spPr>
      </p:pic>
      <p:pic>
        <p:nvPicPr>
          <p:cNvPr id="1859" name="图片 377065" descr=""/>
          <p:cNvPicPr/>
          <p:nvPr/>
        </p:nvPicPr>
        <p:blipFill>
          <a:blip r:embed="rId2"/>
          <a:stretch/>
        </p:blipFill>
        <p:spPr>
          <a:xfrm>
            <a:off x="260280" y="1639800"/>
            <a:ext cx="822636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0" name="图片 1240069" descr=""/>
          <p:cNvPicPr/>
          <p:nvPr/>
        </p:nvPicPr>
        <p:blipFill>
          <a:blip r:embed="rId1"/>
          <a:stretch/>
        </p:blipFill>
        <p:spPr>
          <a:xfrm>
            <a:off x="374760" y="1900080"/>
            <a:ext cx="8394480" cy="19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图片 1255426" descr=""/>
          <p:cNvPicPr/>
          <p:nvPr/>
        </p:nvPicPr>
        <p:blipFill>
          <a:blip r:embed="rId1"/>
          <a:stretch/>
        </p:blipFill>
        <p:spPr>
          <a:xfrm>
            <a:off x="871560" y="1736640"/>
            <a:ext cx="2724120" cy="1952640"/>
          </a:xfrm>
          <a:prstGeom prst="rect">
            <a:avLst/>
          </a:prstGeom>
          <a:ln w="0">
            <a:noFill/>
          </a:ln>
        </p:spPr>
      </p:pic>
      <p:pic>
        <p:nvPicPr>
          <p:cNvPr id="1862" name="图片 1255427" descr=""/>
          <p:cNvPicPr/>
          <p:nvPr/>
        </p:nvPicPr>
        <p:blipFill>
          <a:blip r:embed="rId2"/>
          <a:stretch/>
        </p:blipFill>
        <p:spPr>
          <a:xfrm>
            <a:off x="870120" y="1247760"/>
            <a:ext cx="5067000" cy="4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图片 1254402" descr=""/>
          <p:cNvPicPr/>
          <p:nvPr/>
        </p:nvPicPr>
        <p:blipFill>
          <a:blip r:embed="rId1"/>
          <a:stretch/>
        </p:blipFill>
        <p:spPr>
          <a:xfrm>
            <a:off x="909720" y="920880"/>
            <a:ext cx="6465960" cy="4143240"/>
          </a:xfrm>
          <a:prstGeom prst="rect">
            <a:avLst/>
          </a:prstGeom>
          <a:ln w="0">
            <a:noFill/>
          </a:ln>
        </p:spPr>
      </p:pic>
      <p:sp>
        <p:nvSpPr>
          <p:cNvPr id="1864" name="矩形 1254403"/>
          <p:cNvSpPr/>
          <p:nvPr/>
        </p:nvSpPr>
        <p:spPr>
          <a:xfrm>
            <a:off x="2222640" y="2379600"/>
            <a:ext cx="6778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5" name="矩形 1254404"/>
          <p:cNvSpPr/>
          <p:nvPr/>
        </p:nvSpPr>
        <p:spPr>
          <a:xfrm>
            <a:off x="2502000" y="2824200"/>
            <a:ext cx="6778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6" name="矩形 1254405"/>
          <p:cNvSpPr/>
          <p:nvPr/>
        </p:nvSpPr>
        <p:spPr>
          <a:xfrm>
            <a:off x="2666880" y="3243240"/>
            <a:ext cx="6778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7" name="矩形 1254406"/>
          <p:cNvSpPr/>
          <p:nvPr/>
        </p:nvSpPr>
        <p:spPr>
          <a:xfrm>
            <a:off x="2832120" y="3662280"/>
            <a:ext cx="85572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8" name="矩形 1254407"/>
          <p:cNvSpPr/>
          <p:nvPr/>
        </p:nvSpPr>
        <p:spPr>
          <a:xfrm>
            <a:off x="2997360" y="4132440"/>
            <a:ext cx="9572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9" name="矩形 1254408"/>
          <p:cNvSpPr/>
          <p:nvPr/>
        </p:nvSpPr>
        <p:spPr>
          <a:xfrm>
            <a:off x="3149640" y="457668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图片 1253378" descr=""/>
          <p:cNvPicPr/>
          <p:nvPr/>
        </p:nvPicPr>
        <p:blipFill>
          <a:blip r:embed="rId1"/>
          <a:stretch/>
        </p:blipFill>
        <p:spPr>
          <a:xfrm>
            <a:off x="1604880" y="1022400"/>
            <a:ext cx="5935680" cy="3666960"/>
          </a:xfrm>
          <a:prstGeom prst="rect">
            <a:avLst/>
          </a:prstGeom>
          <a:ln w="0">
            <a:noFill/>
          </a:ln>
        </p:spPr>
      </p:pic>
      <p:sp>
        <p:nvSpPr>
          <p:cNvPr id="1871" name="矩形 1253379"/>
          <p:cNvSpPr/>
          <p:nvPr/>
        </p:nvSpPr>
        <p:spPr>
          <a:xfrm>
            <a:off x="2882880" y="197316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2" name="矩形 1253380"/>
          <p:cNvSpPr/>
          <p:nvPr/>
        </p:nvSpPr>
        <p:spPr>
          <a:xfrm>
            <a:off x="3035160" y="2468520"/>
            <a:ext cx="12369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3" name="矩形 1253381"/>
          <p:cNvSpPr/>
          <p:nvPr/>
        </p:nvSpPr>
        <p:spPr>
          <a:xfrm>
            <a:off x="3213000" y="288756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4" name="矩形 1253382"/>
          <p:cNvSpPr/>
          <p:nvPr/>
        </p:nvSpPr>
        <p:spPr>
          <a:xfrm>
            <a:off x="3365640" y="333216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5" name="矩形 1253383"/>
          <p:cNvSpPr/>
          <p:nvPr/>
        </p:nvSpPr>
        <p:spPr>
          <a:xfrm>
            <a:off x="3556080" y="3763800"/>
            <a:ext cx="12366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6" name="矩形 1253384"/>
          <p:cNvSpPr/>
          <p:nvPr/>
        </p:nvSpPr>
        <p:spPr>
          <a:xfrm>
            <a:off x="3720960" y="41702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7" name="图片 1230866" descr="72"/>
          <p:cNvPicPr/>
          <p:nvPr/>
        </p:nvPicPr>
        <p:blipFill>
          <a:blip r:embed="rId1"/>
          <a:srcRect l="0" t="13423" r="11580" b="0"/>
          <a:stretch/>
        </p:blipFill>
        <p:spPr>
          <a:xfrm>
            <a:off x="2997360" y="766800"/>
            <a:ext cx="2862000" cy="676080"/>
          </a:xfrm>
          <a:prstGeom prst="rect">
            <a:avLst/>
          </a:prstGeom>
          <a:ln w="0">
            <a:noFill/>
          </a:ln>
        </p:spPr>
      </p:pic>
      <p:pic>
        <p:nvPicPr>
          <p:cNvPr id="1878" name="图片 1230868" descr=""/>
          <p:cNvPicPr/>
          <p:nvPr/>
        </p:nvPicPr>
        <p:blipFill>
          <a:blip r:embed="rId2"/>
          <a:stretch/>
        </p:blipFill>
        <p:spPr>
          <a:xfrm>
            <a:off x="425520" y="3979800"/>
            <a:ext cx="5118120" cy="1308240"/>
          </a:xfrm>
          <a:prstGeom prst="rect">
            <a:avLst/>
          </a:prstGeom>
          <a:ln w="0">
            <a:noFill/>
          </a:ln>
        </p:spPr>
      </p:pic>
      <p:grpSp>
        <p:nvGrpSpPr>
          <p:cNvPr id="1879" name="组合 1230871"/>
          <p:cNvGrpSpPr/>
          <p:nvPr/>
        </p:nvGrpSpPr>
        <p:grpSpPr>
          <a:xfrm>
            <a:off x="351000" y="1765440"/>
            <a:ext cx="8391240" cy="2270160"/>
            <a:chOff x="351000" y="1765440"/>
            <a:chExt cx="8391240" cy="2270160"/>
          </a:xfrm>
        </p:grpSpPr>
        <p:pic>
          <p:nvPicPr>
            <p:cNvPr id="1880" name="图片 1230867" descr=""/>
            <p:cNvPicPr/>
            <p:nvPr/>
          </p:nvPicPr>
          <p:blipFill>
            <a:blip r:embed="rId3"/>
            <a:stretch/>
          </p:blipFill>
          <p:spPr>
            <a:xfrm>
              <a:off x="351000" y="1765440"/>
              <a:ext cx="839124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1" name="矩形 1230869"/>
            <p:cNvSpPr/>
            <p:nvPr/>
          </p:nvSpPr>
          <p:spPr>
            <a:xfrm>
              <a:off x="368280" y="3560760"/>
              <a:ext cx="1490760" cy="4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2" name="图片 1238033" descr="73"/>
          <p:cNvPicPr/>
          <p:nvPr/>
        </p:nvPicPr>
        <p:blipFill>
          <a:blip r:embed="rId1"/>
          <a:srcRect l="0" t="13343" r="11279" b="0"/>
          <a:stretch/>
        </p:blipFill>
        <p:spPr>
          <a:xfrm>
            <a:off x="2986200" y="771480"/>
            <a:ext cx="2871720" cy="671400"/>
          </a:xfrm>
          <a:prstGeom prst="rect">
            <a:avLst/>
          </a:prstGeom>
          <a:ln w="0">
            <a:noFill/>
          </a:ln>
        </p:spPr>
      </p:pic>
      <p:pic>
        <p:nvPicPr>
          <p:cNvPr id="1883" name="图片 1238034" descr=""/>
          <p:cNvPicPr/>
          <p:nvPr/>
        </p:nvPicPr>
        <p:blipFill>
          <a:blip r:embed="rId2"/>
          <a:stretch/>
        </p:blipFill>
        <p:spPr>
          <a:xfrm>
            <a:off x="244440" y="1595520"/>
            <a:ext cx="8528040" cy="2444760"/>
          </a:xfrm>
          <a:prstGeom prst="rect">
            <a:avLst/>
          </a:prstGeom>
          <a:ln w="0">
            <a:noFill/>
          </a:ln>
        </p:spPr>
      </p:pic>
      <p:pic>
        <p:nvPicPr>
          <p:cNvPr id="1884" name="图片 1238035" descr=""/>
          <p:cNvPicPr/>
          <p:nvPr/>
        </p:nvPicPr>
        <p:blipFill>
          <a:blip r:embed="rId3"/>
          <a:stretch/>
        </p:blipFill>
        <p:spPr>
          <a:xfrm>
            <a:off x="574560" y="4280040"/>
            <a:ext cx="65851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5" name="图片 1256459" descr=""/>
          <p:cNvPicPr/>
          <p:nvPr/>
        </p:nvPicPr>
        <p:blipFill>
          <a:blip r:embed="rId1"/>
          <a:stretch/>
        </p:blipFill>
        <p:spPr>
          <a:xfrm>
            <a:off x="311040" y="1106640"/>
            <a:ext cx="8142480" cy="2685960"/>
          </a:xfrm>
          <a:prstGeom prst="rect">
            <a:avLst/>
          </a:prstGeom>
          <a:ln w="0">
            <a:noFill/>
          </a:ln>
        </p:spPr>
      </p:pic>
      <p:sp>
        <p:nvSpPr>
          <p:cNvPr id="1886" name="矩形 1256460"/>
          <p:cNvSpPr/>
          <p:nvPr/>
        </p:nvSpPr>
        <p:spPr>
          <a:xfrm>
            <a:off x="1892160" y="239220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7" name="矩形 1256461"/>
          <p:cNvSpPr/>
          <p:nvPr/>
        </p:nvSpPr>
        <p:spPr>
          <a:xfrm>
            <a:off x="2235240" y="283680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8" name="矩形 1256462"/>
          <p:cNvSpPr/>
          <p:nvPr/>
        </p:nvSpPr>
        <p:spPr>
          <a:xfrm>
            <a:off x="2438280" y="325584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9" name="矩形 1256463"/>
          <p:cNvSpPr/>
          <p:nvPr/>
        </p:nvSpPr>
        <p:spPr>
          <a:xfrm>
            <a:off x="6438960" y="2430360"/>
            <a:ext cx="14907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0" name="矩形 1256464"/>
          <p:cNvSpPr/>
          <p:nvPr/>
        </p:nvSpPr>
        <p:spPr>
          <a:xfrm>
            <a:off x="6705720" y="2849400"/>
            <a:ext cx="14904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1" name="矩形 1256465"/>
          <p:cNvSpPr/>
          <p:nvPr/>
        </p:nvSpPr>
        <p:spPr>
          <a:xfrm>
            <a:off x="6959520" y="3281400"/>
            <a:ext cx="149076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0:28:23Z</dcterms:created>
  <dc:creator/>
  <dc:description/>
  <dc:language>en-US</dc:language>
  <cp:lastModifiedBy>万润仪器贸易公司</cp:lastModifiedBy>
  <dcterms:modified xsi:type="dcterms:W3CDTF">2020-08-24T00:28:26Z</dcterms:modified>
  <cp:revision>13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